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0FC1-9707-4A31-B1B1-37F31F15D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struction.greenriver.edu/kmarr/Biology%20211/Lecture%20Notes/Cellular%20Respiration%20Webpage/Respiration%20Web%20N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icro.magnet.fsu.edu/cells/mitochondria/mitochondri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acsbiology.info/Respiration.aspx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.miami.edu/~cmallery/150/makeatp/SLP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parknotes.com/biology/cellrespiration/oxidativephosphorylation/section3.r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E5D-F16C-498C-B9DD-73709BAF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56A-E3D5-4E18-8A52-D49DFB01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096-68C2-45CE-867F-550CFCBB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02E-94FD-47DB-8F86-C4C451B6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5A5-1184-46C4-8333-1D5D3964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790-648F-4DE3-932E-EB526E9B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55E-1CB0-4035-8BDC-EA60AB27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BAF-A338-4E11-A196-AF6933E2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4E8-C4D1-4067-9F35-F558EA32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8DF-F1A5-4733-B2B7-A7CD6DC0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9E6-2AA6-4BFA-91FE-FFD6D0F5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A10-4A0C-4B92-87CA-A1C2C7CD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CD32-F3CC-4D2A-9BF2-58ED4529D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1 &amp;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break down one molecule of glucose into two molecules of pyru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TP and NADH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is transported into the mitochondria and is oxidized, forming acety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ADH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-CoA enters a cycle and is completely oxidized t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,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Electron Transpor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first 3 stages are oxi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a large amount of ATP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74720" y="609480"/>
            <a:ext cx="75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hou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19360" y="1981080"/>
            <a:ext cx="390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rganisms can extract energy from food without using oxygen using anaerobic respiration and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lower amount of free energy release in anaerobic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rganisms are facultative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urvive, living organisms need to be able to take in energy from their environment and convert it to usable 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autotrophs transform light E into chemical potentia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troph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on other organisms (including autotrophs) to obtain chemical potentia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s energy from food in the presence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ergy is used to synthesize ATP from ADP and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ukaryotic organisms are obligat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50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can be produc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rate-level phosphory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rect formation through enzyme-catalyzed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ve phosphory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direct formation through series of redox reactions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the final electron accep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06560" y="1981080"/>
            <a:ext cx="353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76360" y="1981080"/>
            <a:ext cx="438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transport &amp;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1:56:34Z</dcterms:created>
  <dc:creator>rubina khan</dc:creator>
  <dc:description/>
  <dc:language>en-US</dc:language>
  <cp:lastModifiedBy>rubina khan</cp:lastModifiedBy>
  <dcterms:modified xsi:type="dcterms:W3CDTF">2012-10-18T10:19:34Z</dcterms:modified>
  <cp:revision>50</cp:revision>
  <dc:subject/>
  <dc:title>Cellular Respiration</dc:title>
</cp:coreProperties>
</file>